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10.png" ContentType="image/png"/>
  <Override PartName="/ppt/media/image2.gif" ContentType="image/gif"/>
  <Override PartName="/ppt/media/image11.png" ContentType="image/png"/>
  <Override PartName="/ppt/media/image12.jpeg" ContentType="image/jpeg"/>
  <Override PartName="/ppt/media/image3.gif" ContentType="image/gif"/>
  <Override PartName="/ppt/media/image7.png" ContentType="image/png"/>
  <Override PartName="/ppt/media/image4.gif" ContentType="image/gif"/>
  <Override PartName="/ppt/media/image8.png" ContentType="image/png"/>
  <Override PartName="/ppt/media/image5.gif" ContentType="image/gif"/>
  <Override PartName="/ppt/media/image9.png" ContentType="image/png"/>
  <Override PartName="/ppt/media/image6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E33F-B4D5-4C64-9501-36E4F4C53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5E7B-0722-4157-93BC-F12CF34DA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E903-541A-42ED-8D35-3E450FCFC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3877-D3B6-4030-B2CC-6C10EDE88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24CE4-DAA5-48A0-B971-49688D344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BB8D2-C920-475D-BE23-5DCBE0090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4372B-79F5-444B-B720-F4573D144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28B50-6FE9-4B7A-83C1-6082047B2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99DA6-DFFC-4BE8-9FC1-0C163631A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69B3C-9399-4983-A073-5A7BF9BD7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D1EB9-BF39-4AD1-B199-9A3119A55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8112-592D-4888-B997-BC4AD5C29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DAA8D-942F-43AE-96F4-1C52774AE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27136-F94D-4F1A-A908-91F5B8F10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24869-82D1-457C-ACD9-A25701107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B5BA0-8E8E-4710-86BD-4C55BFE77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8D5BE-FC75-4F6C-82B4-7394219EC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1E6E-BBC7-4BBC-8146-EAB7E66C1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AFF3-0E05-4872-A0E0-3B3232A52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B93A-38F9-4EBA-9F28-651C873E6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1889-B557-4038-97E2-14E6B0BB6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6BE1-0349-45B0-8263-08C8326BD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911C-BB1A-455B-962E-D868B8362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AF06-11BB-4622-9240-3203FAFC6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8c79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06499-28A9-41A5-8E1D-8087431EBB3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8c79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F6766-8EBC-4689-AD7A-6DD84256C29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2e2aa"/>
            </a:gs>
            <a:gs pos="50000">
              <a:srgbClr val="eaeaea"/>
            </a:gs>
            <a:gs pos="100000">
              <a:srgbClr val="d2e2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WordArt 1029"/>
          <p:cNvSpPr txBox="1"/>
          <p:nvPr/>
        </p:nvSpPr>
        <p:spPr>
          <a:xfrm>
            <a:off x="539640" y="1052640"/>
            <a:ext cx="7775640" cy="32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808000"/>
                </a:solidFill>
                <a:latin typeface="Times New Roman"/>
              </a:rPr>
              <a:t>ТЕОРЕМА ВИЕТА</a:t>
            </a:r>
            <a:endParaRPr b="1" i="1" lang="en-US" sz="1800" spc="1" strike="noStrike">
              <a:ln w="9360">
                <a:solidFill>
                  <a:srgbClr val="003300"/>
                </a:solidFill>
                <a:miter/>
              </a:ln>
              <a:solidFill>
                <a:srgbClr val="808000"/>
              </a:solidFill>
              <a:latin typeface="Times New Roman"/>
              <a:ea typeface="Times New Roman"/>
            </a:endParaRPr>
          </a:p>
        </p:txBody>
      </p:sp>
      <p:pic>
        <p:nvPicPr>
          <p:cNvPr id="121" name="Picture 2049" descr="j0178207"/>
          <p:cNvPicPr/>
          <p:nvPr/>
        </p:nvPicPr>
        <p:blipFill>
          <a:blip r:embed="rId1"/>
          <a:stretch/>
        </p:blipFill>
        <p:spPr>
          <a:xfrm rot="19728000">
            <a:off x="468000" y="620640"/>
            <a:ext cx="666720" cy="6667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050" descr="j0178208"/>
          <p:cNvPicPr/>
          <p:nvPr/>
        </p:nvPicPr>
        <p:blipFill>
          <a:blip r:embed="rId2"/>
          <a:stretch/>
        </p:blipFill>
        <p:spPr>
          <a:xfrm rot="19224000">
            <a:off x="755280" y="4508640"/>
            <a:ext cx="666720" cy="6667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051" descr="j0178209"/>
          <p:cNvPicPr/>
          <p:nvPr/>
        </p:nvPicPr>
        <p:blipFill>
          <a:blip r:embed="rId3"/>
          <a:stretch/>
        </p:blipFill>
        <p:spPr>
          <a:xfrm rot="2316600">
            <a:off x="7884720" y="1484280"/>
            <a:ext cx="666720" cy="6667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052" descr="j0178210"/>
          <p:cNvPicPr/>
          <p:nvPr/>
        </p:nvPicPr>
        <p:blipFill>
          <a:blip r:embed="rId4"/>
          <a:stretch/>
        </p:blipFill>
        <p:spPr>
          <a:xfrm rot="2572200">
            <a:off x="7092720" y="259920"/>
            <a:ext cx="666720" cy="6667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053" descr="j0178230"/>
          <p:cNvPicPr/>
          <p:nvPr/>
        </p:nvPicPr>
        <p:blipFill>
          <a:blip r:embed="rId5"/>
          <a:stretch/>
        </p:blipFill>
        <p:spPr>
          <a:xfrm rot="20122200">
            <a:off x="3419280" y="4941360"/>
            <a:ext cx="666720" cy="6670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055" descr="j0178231"/>
          <p:cNvPicPr/>
          <p:nvPr/>
        </p:nvPicPr>
        <p:blipFill>
          <a:blip r:embed="rId6"/>
          <a:stretch/>
        </p:blipFill>
        <p:spPr>
          <a:xfrm rot="1520400">
            <a:off x="5435280" y="3933720"/>
            <a:ext cx="666720" cy="6667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4"/>
          <p:cNvSpPr/>
          <p:nvPr/>
        </p:nvSpPr>
        <p:spPr>
          <a:xfrm>
            <a:off x="1042920" y="2492280"/>
            <a:ext cx="7561440" cy="55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Как появилась теорема Вие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Как доказать теорем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Почему теорема актуальна и сейчас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Как работает теорема Пифагора в математических задачах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324000" y="54936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00"/>
                </a:solidFill>
                <a:latin typeface="Arial"/>
              </a:rPr>
              <a:t>И</a:t>
            </a:r>
            <a:r>
              <a:rPr b="0" lang="en-US" sz="3600" spc="-1" strike="noStrike">
                <a:solidFill>
                  <a:srgbClr val="006600"/>
                </a:solidFill>
                <a:latin typeface="Arial"/>
              </a:rPr>
              <a:t>сторические условия возникновения теоремы </a:t>
            </a:r>
            <a:r>
              <a:rPr b="0" lang="ru-RU" sz="3600" spc="-1" strike="noStrike">
                <a:solidFill>
                  <a:srgbClr val="006600"/>
                </a:solidFill>
                <a:latin typeface="Arial"/>
              </a:rPr>
              <a:t>Вие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"/>
          <p:cNvPicPr/>
          <p:nvPr/>
        </p:nvPicPr>
        <p:blipFill>
          <a:blip r:embed="rId1"/>
          <a:stretch/>
        </p:blipFill>
        <p:spPr>
          <a:xfrm>
            <a:off x="7015320" y="1700280"/>
            <a:ext cx="212868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1133640" y="2351160"/>
            <a:ext cx="7162560" cy="24778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3" descr=""/>
          <p:cNvPicPr/>
          <p:nvPr/>
        </p:nvPicPr>
        <p:blipFill>
          <a:blip r:embed="rId2"/>
          <a:stretch/>
        </p:blipFill>
        <p:spPr>
          <a:xfrm>
            <a:off x="7209000" y="19080"/>
            <a:ext cx="1915920" cy="15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4" descr=""/>
          <p:cNvPicPr/>
          <p:nvPr/>
        </p:nvPicPr>
        <p:blipFill>
          <a:blip r:embed="rId1"/>
          <a:stretch/>
        </p:blipFill>
        <p:spPr>
          <a:xfrm>
            <a:off x="41400" y="203040"/>
            <a:ext cx="8912160" cy="168444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5"/>
          <p:cNvSpPr/>
          <p:nvPr/>
        </p:nvSpPr>
        <p:spPr>
          <a:xfrm>
            <a:off x="49320" y="2216160"/>
            <a:ext cx="8861400" cy="45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Познакомится с историческими условия возникновения теоремы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Виета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Изучит различные способы доказательства теоремы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Виета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6" descr=""/>
          <p:cNvPicPr/>
          <p:nvPr/>
        </p:nvPicPr>
        <p:blipFill>
          <a:blip r:embed="rId2"/>
          <a:stretch/>
        </p:blipFill>
        <p:spPr>
          <a:xfrm>
            <a:off x="7015320" y="0"/>
            <a:ext cx="2128680" cy="17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0" y="444600"/>
            <a:ext cx="9144000" cy="164124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5"/>
          <p:cNvSpPr/>
          <p:nvPr/>
        </p:nvSpPr>
        <p:spPr>
          <a:xfrm>
            <a:off x="343080" y="2271600"/>
            <a:ext cx="8546760" cy="44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Познакомится с применение теоремы к решению древних задач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Изучит основные виды современных геометрических задач, решаемых при помощи теоремы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Виета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6" descr=""/>
          <p:cNvPicPr/>
          <p:nvPr/>
        </p:nvPicPr>
        <p:blipFill>
          <a:blip r:embed="rId2"/>
          <a:stretch/>
        </p:blipFill>
        <p:spPr>
          <a:xfrm>
            <a:off x="6994440" y="0"/>
            <a:ext cx="212904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4" descr=""/>
          <p:cNvPicPr/>
          <p:nvPr/>
        </p:nvPicPr>
        <p:blipFill>
          <a:blip r:embed="rId1"/>
          <a:stretch/>
        </p:blipFill>
        <p:spPr>
          <a:xfrm>
            <a:off x="20520" y="519120"/>
            <a:ext cx="8921880" cy="165096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5"/>
          <p:cNvSpPr/>
          <p:nvPr/>
        </p:nvSpPr>
        <p:spPr>
          <a:xfrm>
            <a:off x="363600" y="3284640"/>
            <a:ext cx="7962840" cy="34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Познакомится с применение теоремы к решению современных задач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Узнает как используется теорема в современном мир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6" descr=""/>
          <p:cNvPicPr/>
          <p:nvPr/>
        </p:nvPicPr>
        <p:blipFill>
          <a:blip r:embed="rId2"/>
          <a:stretch/>
        </p:blipFill>
        <p:spPr>
          <a:xfrm>
            <a:off x="7015320" y="0"/>
            <a:ext cx="212868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WordArt 4"/>
          <p:cNvSpPr txBox="1"/>
          <p:nvPr/>
        </p:nvSpPr>
        <p:spPr>
          <a:xfrm>
            <a:off x="900000" y="2708280"/>
            <a:ext cx="733608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Франсуа Виет – отец алгебры!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Viete_2"/>
          <p:cNvPicPr/>
          <p:nvPr/>
        </p:nvPicPr>
        <p:blipFill>
          <a:blip r:embed="rId1"/>
          <a:stretch/>
        </p:blipFill>
        <p:spPr>
          <a:xfrm>
            <a:off x="179280" y="404640"/>
            <a:ext cx="4410360" cy="619128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3"/>
          <p:cNvSpPr/>
          <p:nvPr/>
        </p:nvSpPr>
        <p:spPr>
          <a:xfrm>
            <a:off x="4643280" y="0"/>
            <a:ext cx="3745080" cy="56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Monotype Corsiva"/>
              </a:rPr>
              <a:t>Франсуа Виет (1540 – 160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Monotype Corsiva"/>
              </a:rPr>
              <a:t>По праву достойна в стихах быть воспет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Monotype Corsiva"/>
              </a:rPr>
              <a:t>о свойствах корней теорема Виета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99"/>
                </a:solidFill>
                <a:latin typeface="Monotype Corsiva"/>
              </a:rPr>
              <a:t>(А.Гуревич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31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31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" dur="8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31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31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8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31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31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8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31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31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8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7T04:14:09Z</dcterms:created>
  <dc:creator>User</dc:creator>
  <dc:description/>
  <dc:language>en-US</dc:language>
  <cp:lastModifiedBy>ILYA</cp:lastModifiedBy>
  <dcterms:modified xsi:type="dcterms:W3CDTF">2010-05-28T04:30:44Z</dcterms:modified>
  <cp:revision>54</cp:revision>
  <dc:subject/>
  <dc:title>Слайд 1</dc:title>
</cp:coreProperties>
</file>